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40A-BCE3-4703-9017-64331BFEE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001-AC4D-46EF-B1AB-CBB0201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CCE-3901-42FE-B9B4-59A3EAB6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83D-F441-4854-ABCC-DF149B14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9A7-7CC7-4C51-9710-D9A73F96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A29-9226-4CE9-B7CD-3C4F9B2E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912-B94E-423A-8B7F-EBE30C11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D7E-3C30-42B0-873B-80E10EB7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A4E-8AEF-4607-AFF4-02A3159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EFC-37DC-41BE-ADE5-92C394CA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7E0-38D3-4660-A9BE-44DDB95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28D-109F-4CBE-8EB9-907EE37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902E-4273-41B5-8288-003065DC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2-23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3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2 году (часть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712800"/>
          <a:ext cx="8785440" cy="559260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9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9 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9 3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 50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35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в выполнении НИР в 2012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Участие в выставках и конференциях в 201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, всего –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112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том числе  на базе вуза -  </a:t>
            </a:r>
            <a:r>
              <a:rPr b="0" lang="ru-RU" sz="16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2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 201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692280"/>
          <a:ext cx="7991280" cy="5632200"/>
        </p:xfrm>
        <a:graphic>
          <a:graphicData uri="http://schemas.openxmlformats.org/drawingml/2006/table">
            <a:tbl>
              <a:tblPr/>
              <a:tblGrid>
                <a:gridCol w="6264000"/>
                <a:gridCol w="17272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международных  и всероссийских  конференций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друг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тьи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явки на объекты промышл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обре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олез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атент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идетельства  о государственной регистрации Роспат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рограмм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баз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ленарное заседание</a:t>
            </a:r>
            <a:br>
              <a:rPr sz="1400"/>
            </a:b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13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630360"/>
            <a:ext cx="5925960" cy="622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Основные научные направления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765000"/>
          <a:ext cx="6983280" cy="57610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520" y="289080"/>
            <a:ext cx="8138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341360"/>
          <a:ext cx="8785080" cy="458460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0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55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0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0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8603640" y="2924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04360" y="3860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603640" y="5445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603640" y="3429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603640" y="4653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227640" y="465300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603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3860640"/>
            <a:ext cx="146160" cy="287640"/>
          </a:xfrm>
          <a:prstGeom prst="downArrow">
            <a:avLst>
              <a:gd name="adj1" fmla="val 50000"/>
              <a:gd name="adj2" fmla="val 492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27640" y="234936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92428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227640" y="508464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04360" y="5084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27640" y="551664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227640" y="342900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26360" cy="57456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Государственного задания, ФЦП в 201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61920" y="1374840"/>
          <a:ext cx="744876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4840"/>
                    <a:ext cx="744876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Распределение тем НИР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в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593640"/>
          <a:ext cx="8353440" cy="5959440"/>
        </p:xfrm>
        <a:graphic>
          <a:graphicData uri="http://schemas.openxmlformats.org/drawingml/2006/table">
            <a:tbl>
              <a:tblPr/>
              <a:tblGrid>
                <a:gridCol w="3539880"/>
                <a:gridCol w="1789200"/>
                <a:gridCol w="302436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4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6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0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 6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 инстит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 3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 5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459640" y="436572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5229360"/>
            <a:ext cx="144720" cy="288720"/>
          </a:xfrm>
          <a:prstGeom prst="upArrow">
            <a:avLst>
              <a:gd name="adj1" fmla="val 50000"/>
              <a:gd name="adj2" fmla="val 498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773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9079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8360" y="981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8360" y="134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134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8360" y="1773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205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8360" y="2205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70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270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59640" y="479736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5229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789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59640" y="378936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ведения по НИР за 2012 год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765000"/>
          <a:ext cx="8675640" cy="5778720"/>
        </p:xfrm>
        <a:graphic>
          <a:graphicData uri="http://schemas.openxmlformats.org/drawingml/2006/table">
            <a:tbl>
              <a:tblPr/>
              <a:tblGrid>
                <a:gridCol w="1658880"/>
                <a:gridCol w="290520"/>
                <a:gridCol w="723960"/>
                <a:gridCol w="289080"/>
                <a:gridCol w="652320"/>
                <a:gridCol w="285840"/>
                <a:gridCol w="579600"/>
                <a:gridCol w="290520"/>
                <a:gridCol w="685800"/>
                <a:gridCol w="180720"/>
                <a:gridCol w="654120"/>
                <a:gridCol w="285840"/>
                <a:gridCol w="650880"/>
                <a:gridCol w="506160"/>
                <a:gridCol w="941400"/>
              </a:tblGrid>
              <a:tr h="85536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4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1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51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 84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6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х систем и гео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24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 2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6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3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3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862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 130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5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6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9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569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2 году (часть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197000"/>
          <a:ext cx="8785440" cy="494820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3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 9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2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 7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5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2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6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технологий и систем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ских измеритель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шей математики и теоретической меха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9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User</cp:lastModifiedBy>
  <dcterms:modified xsi:type="dcterms:W3CDTF">2013-02-20T05:05:49Z</dcterms:modified>
  <cp:revision>623</cp:revision>
  <dc:subject/>
  <dc:title>Итоговая сессия Ученого совета РГГМУ</dc:title>
</cp:coreProperties>
</file>